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892-CE77-4447-B2C6-3456E18A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0466-F37C-4EB2-8122-40C8DE12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C8AB-4CE1-49CB-AFE2-B1B4A74D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18D9-22BE-4854-859B-321E3D3A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DEF5-11D8-4A28-8320-B7E31C42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FCD5-F765-463B-816D-6D62DA3B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48FB-7A88-4985-A36D-96375F32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E7C5-5652-40EE-B5C0-264A7155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6AAD-BFCD-4E51-8D2E-7C9DB71A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052F-1AC5-49F1-8DEA-97583728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7E3E-8096-447C-87C7-C3D74709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809C-9B17-4FDE-842B-BFDEF2BC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0623-22F8-43DD-B106-F9F62874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980D-78C7-47BD-B3C9-8A5C4BBC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AC32-9F8D-400D-A43A-3F90023C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460E-BD93-498F-AD3B-221C876B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9CFC-712F-4D1F-A898-CCBDA8F3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C45D-3770-4CA4-9BA6-DE381021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9C9D-29E7-4D78-B2D3-31008A50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B06D-FADB-47BE-8665-3ABEB491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C907-5823-495D-A923-ED85C3DA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69C8-36EA-4F5B-A1C0-E801DAAA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16C9-F386-4C58-BAFE-CD8FFFEA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56EA-AC7C-40D1-A990-FAB11705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2DC6-EF22-45E7-B9EE-5B9283C3F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8358120" y="6583320"/>
            <a:ext cx="274680" cy="274680"/>
          </a:xfrm>
          <a:custGeom>
            <a:avLst/>
            <a:gdLst>
              <a:gd name="textAreaLeft" fmla="*/ 17640 w 274680"/>
              <a:gd name="textAreaRight" fmla="*/ 257040 w 27468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7400880" y="6583320"/>
            <a:ext cx="274680" cy="274680"/>
          </a:xfrm>
          <a:custGeom>
            <a:avLst/>
            <a:gdLst>
              <a:gd name="textAreaLeft" fmla="*/ 17640 w 274680"/>
              <a:gd name="textAreaRight" fmla="*/ 257040 w 27468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nextslide"/>
          </p:cNvPr>
          <p:cNvSpPr/>
          <p:nvPr/>
        </p:nvSpPr>
        <p:spPr>
          <a:xfrm>
            <a:off x="7886880" y="6583320"/>
            <a:ext cx="274320" cy="274680"/>
          </a:xfrm>
          <a:custGeom>
            <a:avLst/>
            <a:gdLst>
              <a:gd name="textAreaLeft" fmla="*/ 17640 w 274320"/>
              <a:gd name="textAreaRight" fmla="*/ 256680 w 2743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21600" h="21628">
                <a:moveTo>
                  <a:pt x="0" y="0"/>
                </a:moveTo>
                <a:lnTo>
                  <a:pt x="21600" y="0"/>
                </a:lnTo>
                <a:lnTo>
                  <a:pt x="21600" y="21628"/>
                </a:lnTo>
                <a:lnTo>
                  <a:pt x="0" y="21628"/>
                </a:lnTo>
                <a:close/>
              </a:path>
              <a:path fill="lightenLess" w="21600" h="216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8">
                <a:moveTo>
                  <a:pt x="21600" y="0"/>
                </a:moveTo>
                <a:lnTo>
                  <a:pt x="21600" y="21628"/>
                </a:lnTo>
                <a:lnTo>
                  <a:pt x="20200" y="20228"/>
                </a:lnTo>
                <a:lnTo>
                  <a:pt x="20200" y="1400"/>
                </a:lnTo>
                <a:close/>
              </a:path>
              <a:path fill="darkenLess" w="21600" h="21628">
                <a:moveTo>
                  <a:pt x="21600" y="21628"/>
                </a:moveTo>
                <a:lnTo>
                  <a:pt x="0" y="21628"/>
                </a:lnTo>
                <a:lnTo>
                  <a:pt x="1400" y="20228"/>
                </a:lnTo>
                <a:lnTo>
                  <a:pt x="20200" y="20228"/>
                </a:lnTo>
                <a:close/>
              </a:path>
              <a:path fill="lighten" w="21600" h="21628">
                <a:moveTo>
                  <a:pt x="0" y="216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8"/>
                </a:lnTo>
                <a:close/>
              </a:path>
              <a:path fill="darken" w="21600" h="21628">
                <a:moveTo>
                  <a:pt x="3794" y="3808"/>
                </a:moveTo>
                <a:lnTo>
                  <a:pt x="17806" y="10814"/>
                </a:lnTo>
                <a:lnTo>
                  <a:pt x="3794" y="1782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44AE-A615-4575-BCCB-4497D36FC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ea.state.tx.us/starchart" TargetMode="External"/><Relationship Id="rId3" Type="http://schemas.openxmlformats.org/officeDocument/2006/relationships/hyperlink" Target="http://starchart.esc12.net/docs/TxTSC.pdf" TargetMode="External"/><Relationship Id="rId4" Type="http://schemas.openxmlformats.org/officeDocument/2006/relationships/hyperlink" Target="http://starchart.esc12.net/docs/TxCSC.pdf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itter.tea.state.tx.us/technology/etac/LRPToct06.pdf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ea.state.tx.us/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14320" y="927000"/>
            <a:ext cx="74296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La Vernia Elementary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STaR Chart Analysi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991960" y="2768760"/>
            <a:ext cx="5248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to the Facu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5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349" t="12707" r="508" b="23363"/>
          <a:stretch/>
        </p:blipFill>
        <p:spPr>
          <a:xfrm>
            <a:off x="4505400" y="4349880"/>
            <a:ext cx="3765600" cy="1820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ahoma"/>
              </a:rPr>
              <a:t>Conclusions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53920" y="1109520"/>
            <a:ext cx="7065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reatest Strength: Infrastructure for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Thin client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Advanced wireles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reatest Weakness: Teaching an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ss of supplemental grant fundin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The Sage on the Stage” syndrome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rching 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Follow the TEKS/TA-TEK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Become “learning facilitators”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842160" y="4452840"/>
            <a:ext cx="1251000" cy="1822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79480" y="920880"/>
            <a:ext cx="719784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Question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ahoma"/>
              </a:rPr>
              <a:t>Measuring Performance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4280" y="1109520"/>
            <a:ext cx="69595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d annual technology asses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ability of progress data is essent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xas STaR Chart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assessment instru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achers submit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eacher STaR Ch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acher results feed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ampus STaR Ch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068720" y="4757760"/>
            <a:ext cx="1889280" cy="1511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ahoma"/>
              </a:rPr>
              <a:t>Chart Basis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850760" y="1150920"/>
            <a:ext cx="662292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 Chart based on the Texas LRP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(Long Range Plan for Technolo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PT divided into four dom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aching and Learn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ducator Preparation and Develop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adership, Administration and Instructional Suppor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frastructure for Technology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 Chart Key Area = LRPT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ahoma"/>
              </a:rPr>
              <a:t>Levels of Progress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4280" y="1109520"/>
            <a:ext cx="69595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s of Progress in STaR Chart Key Ar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arly Tech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eveloping Tech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dvanced Tech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arget Tech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xas Education Agenc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sets goal to achieve Target Tech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556240" y="471636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ahoma"/>
              </a:rPr>
              <a:t>Comparison by Key Area Total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25520" y="2106720"/>
          <a:ext cx="609156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5520" y="2106720"/>
                    <a:ext cx="60915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793960" y="1233360"/>
            <a:ext cx="3592440" cy="96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6-8 = Early 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9-14 = Developing 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5-20 = Advanced Te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1-24 = Target 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18480" y="277812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35360" y="6035760"/>
            <a:ext cx="34592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2005/2006 A&amp;S and IT totals not directly comparable due to STaR Chart design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ahoma"/>
              </a:rPr>
              <a:t>Teaching and Learning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27320" y="21067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7320" y="21067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819520" y="1257480"/>
            <a:ext cx="3504960" cy="96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 = Early 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 = Developing Te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 = Advanced 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 = Target 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18480" y="277812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35360" y="6035760"/>
            <a:ext cx="34592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/2006 Not directly comparable in this view due to STaR Chart design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ahoma"/>
              </a:rPr>
              <a:t>Educator Preparation and Development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25520" y="2104920"/>
          <a:ext cx="609624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5520" y="210492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2835360" y="6035760"/>
            <a:ext cx="34592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/2006 Not directly comparable in this view due to STaR Chart design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06560" y="1260360"/>
            <a:ext cx="3519720" cy="96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 = Early 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 = Developing Te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 = Advanced 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 = Target 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ahoma"/>
              </a:rPr>
              <a:t>Leadership, Administration and Instructional Support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25520" y="2104920"/>
          <a:ext cx="609624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5520" y="210492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2835360" y="6035760"/>
            <a:ext cx="34592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/2006 Not directly comparable in this view due to STaR Chart design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06560" y="1260360"/>
            <a:ext cx="3519720" cy="96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 = Early 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 = Developing Te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 = Advanced 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 = Target 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ahoma"/>
              </a:rPr>
              <a:t>Infrastructure for Technology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224080" y="210492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4080" y="210492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835360" y="6035760"/>
            <a:ext cx="34592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/2006 Not directly comparable in this view due to STaR Chart design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06560" y="1262160"/>
            <a:ext cx="3519720" cy="96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 = Early 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 = Developing Te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 = Advanced 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 = Target 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6:05:03Z</dcterms:created>
  <dc:creator>Allen D. Bordelon</dc:creator>
  <dc:description/>
  <cp:keywords/>
  <dc:language>en-US</dc:language>
  <cp:lastModifiedBy>Allen Bordelon</cp:lastModifiedBy>
  <dcterms:modified xsi:type="dcterms:W3CDTF">2009-06-15T20:31:59Z</dcterms:modified>
  <cp:revision>72</cp:revision>
  <dc:subject/>
  <dc:title>Classroom Expec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89511033</vt:lpwstr>
  </property>
</Properties>
</file>